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B01-A7D3-42A8-8CE4-65E5D689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D3C-4379-4D95-BB71-8D3031E2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53E-D604-459D-9513-BB3C8DD7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E446-D656-4923-8D3A-50DC95B6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931C-73A1-4F16-99E6-3B2F9990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EAD-EF06-46A8-945F-C845D28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AAE-60D0-450D-B4A3-15135006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FC3-7FA7-4CE0-BDDC-32A57290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2DD-D92E-4897-BE18-60E6CD71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F3C-95A2-4AFC-8BB8-68FA108D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4420-9BA8-4F8B-975C-49955A22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910-EBD1-445C-9441-C052A066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0D21-6C0B-4D0D-B4FA-1C65D7C90E0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ompet.cz/" TargetMode="External"/><Relationship Id="rId2" Type="http://schemas.openxmlformats.org/officeDocument/2006/relationships/hyperlink" Target="http://ec.europa.eu/comm/competition/index_cs.html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Základní informace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k veřejné podpoře v OP LZZ</a:t>
            </a:r>
            <a:br>
              <a:rPr sz="3600"/>
            </a:br>
            <a:br>
              <a:rPr sz="3600"/>
            </a:br>
            <a:br>
              <a:rPr sz="1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9000"/>
            <a:ext cx="64008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řejná podpora by se naopak neměla vztahovat na zařízení pro širokou veřejnost nebo podnikových zařízení provozovaných kraji, obcemi či veřejnými vysokými školam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adatel je povinen v rozpočtu projektu vyznačit náklady na aktivity spojené se službou péče o děti režimem de minim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dpora podnikatelských aktivit cílové skupin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ou zařazeny aktivity směřované k podpoře samostatné výdělečné činnosti již podnikajících ž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podpory žen, které podnikání teprve plánují, se o veřejnou podporu nejedn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 kombinace aktivit pro ženy ještě nepodnikající a ženy vykonávající samostatnou výdělečnou činnost je žadatel povinen v projektové žádosti tyto aktivity oddělit do samostatných modul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Ženy s pozastaveným ŽL evidované na úřadu práce, jsou mimo veřejnou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ké v rozpočtu musí být uvedeny zvlášť a označeny příslušným typem podpory (Není VP/de minim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je podpora klientky financována v režimu „není VP“ a tato klientka během projektu zahájí samostatnou výdělečnou činnost, nemůže být dále financována mimo režim veřejné podp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skytování mzdových příspěvk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 režimu de minimis bude rovněž spadat poskytování mzdových příspěvků na realizaci flexibilních pracovních úvazků (vyjma úřadů samosprávy a veřejných vysokých š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 z okruhu A realizované ve prospěch konkrétních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př. návod na zpracování plánu rovnosti žen a mužů ve firmě určený pro široké spektrum podniků není VP X aktivity „šité na míru“ konkrétním podnikům (např. personální strategie) spadají do režim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případě kombinace opět nutné oddělit v rozpoč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59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ákladním pramenem práva upravujícího nakládání s veřejnou podporou je Smlouva o ES (dále jen „Smlouva“). Úpravu veřejné podpory obsahují zejména čl. 87 a násl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efinice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čl. 87 odst. 1 Smlouv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dpora poskytovaná v jakékoli formě státy nebo z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tátních prostředků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která narušuje nebo hrozí narušit soutěž tím, ž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3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zvýhodňuje určité podniky nebo určitá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větví výroby, jso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4.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pokud ovlivňují obchod mezi členskými státy, neslučitelné s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společným trhem, nestanoví-li tato smlouva jin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veřejné podpory na národní úrov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215/2004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úpravě některých vztahů v oblasti veřejné podpory a o změně zákona o podpoře výzkumu a vý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kon č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319/2006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b., o některých opatřeních ke zprůhlednění finančních vztahů v oblasti veřejné podp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Právní prameny veřejné podp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09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mínky poskytování podpory dle pravidla de minimis stanovuje nařízení komise (ES) č.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1998/2006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použití článků 87 a 88 Smlouvy na podporu de mini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ora poskytovaná podle pravidla de minimis nesmí u jednoho subjektu za tři po sobě následující účetní období přesáhnout hodnotu 200 000 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I když se jí svým charakterem blíží, ne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pora de minimis veřejnou podporou, neboť z důvodu své bagatelní výše nemůže ovlivnit obchod mezi členskými státy a  ani narušit hospodářskou soutěž, a nesplňuje tak všechny čtyři znaky veřejné podpor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né v čl. 87 odst. 1 Smlouv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Kde je možné získat informace k 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86000"/>
            <a:ext cx="82123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Legislativa, judikatura a in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o ochranu hospodářské soutěže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mpet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Legislativa EU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eur-lex.europa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Generální ředitelství pro hosp. soutě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c.europa.eu/comm/competition/index_c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udikatura ESD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ff"/>
                </a:solidFill>
                <a:latin typeface="Arial"/>
              </a:rPr>
              <a:t>http://curia.europa.eu/c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ravidla OP LZZ pro poskytování veřejné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kytování veřejné podpory v projektech OP LZZ je upraveno příručkou D7 „Veřejná podpora a podpora de minimis v OP LZZ“ dostupné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sfcr.c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557000"/>
            <a:ext cx="84391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e výzvě 88 je možné čerpat veřejnou podporu pouze </a:t>
            </a:r>
            <a:br>
              <a:rPr sz="2400"/>
            </a:br>
            <a:r>
              <a:rPr b="1" lang="cs-CZ" sz="2400" spc="-1" strike="noStrike" u="sng">
                <a:solidFill>
                  <a:srgbClr val="144c7e"/>
                </a:solidFill>
                <a:uFillTx/>
                <a:latin typeface="Arial"/>
              </a:rPr>
              <a:t>v režimu de min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maximálně 200 000 EUR pro jeden podnik za poslední tři účetní období (100 000 EUR pro podniky působící v silniční dopra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tace až do výše 100% způsobilých výdaj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údaj o velikosti podpory de minimis poskytnuté příjemci a jeho případným partnerům získá příjemce z přílohy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„Rozpočet zapojené subjekty VP“, který bude uveřejněn u výzvy č. 7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439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V aplikaci Benefit7+ v kapitole 18 Veřejná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c7e"/>
                </a:solidFill>
                <a:latin typeface="Arial"/>
              </a:rPr>
              <a:t>Podpora de minimis generována v tabulce bez nepřímých nákladů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. Projekt celý v režimu podpory de minim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Celkové způsobilé náklady projektu - 4 856 315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- 682 827,84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4 856 315,84 Kč mínus 682 827,84 Kč je 4 173 488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Nepřímé náklady nutno brát v potaz při stanovení limitu čerpání 200 tis. EUR na jeden subjekt/IČ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5" descr=""/>
          <p:cNvPicPr/>
          <p:nvPr/>
        </p:nvPicPr>
        <p:blipFill>
          <a:blip r:embed="rId1"/>
          <a:srcRect l="28946" t="10420" r="27115" b="78515"/>
          <a:stretch/>
        </p:blipFill>
        <p:spPr>
          <a:xfrm>
            <a:off x="395280" y="4653000"/>
            <a:ext cx="8424720" cy="1425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6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poru de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lze poskytnou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v oblastech uvedených v čl. 1 odst. 1 nařízení Komise (ES) č. 1998/2006, kterými jso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odvětví rybolovu a akvakul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vovýroba zemědělských výrobků uvedených v příloze č. 1 Smlo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ěkteré podpory poskytnuté podnikům činným v odvětví zpracování a uvádění zemědělských produktů uvedených v příloze č. 1 Smlouvy na 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ři vývo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vázaná na přednostní používání domácího zboží na úkor zboží dovážen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činným v odvětví uhelného průmy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na nabývání vozidel pro silniční nákladní dopravu poskytované podnikům provozujícím silniční nákladní dopravu pro cizí potř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pora podnikům v obtíží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Výzva 88, podpora de mini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kladatel projektu musí zajistit, aby plánovaná podpora aktivit projektu nenaplňovala znaky veřejné podpory podle čl. 107 Smlouvy o fungování 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Výjimku tvoří projekty, jejichž součástí js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užby péče o d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zdové příspě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směřované k podpoře již podnikajících ž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ktivity z okruhu A realizované ve prospěch konkrétního žadatele a jeho partn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Služby péče o děti: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ude zvažována podpora v režimu de minimis, pokud by se jednalo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 zvýhodnění konkrétních zaměstnavatelů na trhu. Pokud firma zřídí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provozuje z veřejných prostředků školku pro děti svých zaměstnanců, jedná se o její zvýhodnění před ostatními soukromými subjek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cp:lastPrinted>2012-03-21T06:30:49Z</cp:lastPrinted>
  <dcterms:modified xsi:type="dcterms:W3CDTF">2012-03-21T06:31:06Z</dcterms:modified>
  <cp:revision>294</cp:revision>
  <dc:subject/>
  <dc:title>Snímek 1</dc:title>
</cp:coreProperties>
</file>